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0FA-9A42-47EF-BB5C-BEB5DF89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714-D82E-4B5D-82E1-E5DCE049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114-50D3-452C-822A-08E47EA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19D-B8F1-41B0-BC31-08BCFDEA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606-E380-449C-B427-7B28959C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175-826E-4E9D-AC2D-4FF36A24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F17-FCA2-4EC9-B081-1D47E9B2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4CA-CEDB-4F84-BBE5-EC46E916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0CB-1E44-41FB-8D81-40D8C7AB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AE7-B231-48D5-A841-9B31FD4D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5D1-6656-48B3-A715-E564A4E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D83-6ED7-4449-A820-80F21CF7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5C75-7EEA-46C0-9A4F-1E411E0A3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English111 Vivace BT"/>
              </a:rPr>
              <a:t>Recette:</a:t>
            </a:r>
            <a:r>
              <a:rPr b="0" lang="fr-FR" sz="4400" spc="-1" strike="noStrike">
                <a:solidFill>
                  <a:srgbClr val="000000"/>
                </a:solidFill>
                <a:latin typeface="English111 Vivace BT"/>
              </a:rPr>
              <a:t> “Mousse Rouzanna au Chocolat Noi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901000">
            <a:off x="395280" y="2276280"/>
            <a:ext cx="5477040" cy="3647880"/>
          </a:xfrm>
          <a:prstGeom prst="rect">
            <a:avLst/>
          </a:prstGeom>
          <a:ln w="28440">
            <a:solidFill>
              <a:srgbClr val="130e07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940360" y="1916280"/>
            <a:ext cx="2879640" cy="490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*Pour 4 personnes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nglish111 Vivace BT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uettez longuement 12 jaunes d’œufs et versez-y 250 g de chocolat noir fon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nglish111 Vivace BT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ncorporez délicatement à la spatule 12 blancs d’œufs en neige bien fer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nglish111 Vivace BT"/>
              </a:rPr>
              <a:t>T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rminez en glissant dans la mousse des coupeaux de chocolat réalisés avec un couteau écon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nglish111 Vivace BT"/>
              </a:rPr>
              <a:t>L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aissez la mousse prendre une nuit au réfrigérateur avant de la serv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7:59:21Z</dcterms:created>
  <dc:creator>Usuario</dc:creator>
  <dc:description/>
  <dc:language>en-US</dc:language>
  <cp:lastModifiedBy>Usuario</cp:lastModifiedBy>
  <dcterms:modified xsi:type="dcterms:W3CDTF">2011-05-12T17:59:26Z</dcterms:modified>
  <cp:revision>1</cp:revision>
  <dc:subject/>
  <dc:title>Recette: “Mousse Rouzanna au Chocolat Noir”</dc:title>
</cp:coreProperties>
</file>